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9C7-B33B-4CC9-86D8-FE26167F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7E9-B986-492D-9B75-C4433C69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70DBA-3266-4343-8128-561F0A20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545D9-CB22-4501-B1D5-967E9BE8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1025F-1E1B-431F-9DD3-EAAF2B1F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91CDC-F265-4C59-9AC3-FB908220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5C84A-187B-402A-A17F-517FCBD6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97743-8A39-48ED-ADD0-91B1D4C6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D83DE-F5C2-4C2B-8A4A-69D28B95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86835-727C-4493-85D0-3D20C72B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C0631-8EBF-475D-A65C-612D30C8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85ECE-ED49-406E-9118-C893654B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4C3-3056-4552-829E-F521D353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5E53C-13A1-417E-9027-178433A0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10183-06C0-4DDE-A57A-8F879C1E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DEE4B-16FA-401A-91B7-011051F4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21593-FDFF-4A0F-8E36-242CF4A3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99DAF-F1EB-4D40-A847-C401B8A6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D42BC-3ADE-4230-8A5B-16C97B55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5B032-6A9D-4677-96A8-944639E9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F3E46-1FC8-46A2-BB14-B002B9DB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FF0A3-DE11-422F-A9A2-E26B6A96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B6720-3C23-41D4-A1CB-8E073747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9F7-E6F7-4A06-B77D-7B33400B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D77CF-5B85-428E-B4FC-DFCFB6E4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6C730-03D8-44F6-AC02-EE6CBFF9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1CA30-F837-43CC-BA87-63A86AB9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D3CC9-1EDF-4F9F-B3C1-546DC20F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49963-A128-4CB1-A7E1-1C76ED4F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99125-C77C-4EA0-9AA6-C6205D7B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1C491-4362-4ED8-8DD8-F5DC1F77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A12C2-DF20-459D-A26B-B552BD74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38695-0B0D-40C0-970E-AB082C4F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38D1C-FE9F-4134-BB3F-A41E541F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B6B3-26A8-44CC-97A6-FDB6A816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D916C-BA11-4F60-8C9F-5C21D483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5EA6E-D9D2-42EC-8D6D-F718FD01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D110E-FEAD-4981-8A20-694BF16B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BD7F7-9D97-4A51-A252-D2B05C3E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8B987-B2B5-4382-8EB2-FCA10D3E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65ECA-2C33-49D6-9131-E30D6D34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0C841-73C3-484B-8554-E7E1E22E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A7E8E-847B-429D-A2D1-90559DCE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7DFFF-6621-433F-BA2C-9CF2C398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634FD-2732-422B-B734-4E446069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323A-772D-47D0-A0CC-D3CFF46F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D59E5-BBAE-4BE8-AC77-B5F56A38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4EE81-E3E7-4366-B1E2-72020DD6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EA597-6E2E-4688-83C5-519B4485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DADFC-5083-4520-91C1-D1CE71DD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B8303-279E-4F30-A6C8-DE16B568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DB692-2AF4-4D26-9A02-CACA0C6E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DDB10-D0EA-4C1B-9BAE-9780BC81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C362B-E447-401E-B07E-7B009135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7F4E3-CAA0-4FED-A0CD-AD9651F2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B5A35-B341-48B9-9E86-9CDB73CB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EA98-F1B2-44AC-B9FD-ADCECB50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14A24-F633-4CDD-ACAF-FD0ADD35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8B468-4F46-4D65-BAAA-4CCFD8B9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18CD3-105A-4BF8-9882-1C7FC8DE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B846E-BA06-430A-82D3-99CEFD5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96CE1-FCE9-4B99-8895-5DD4921A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AD7A5-D39A-40C3-8872-3268899B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6540A-7FF2-44B5-BE82-C47D4983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67C77-011C-4BAD-B233-20A6AC07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89D9E-16CD-45FD-92C1-95AE561F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0A97B-D058-4E69-A4F7-CF194A2A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1B4A-7CF3-4322-9BCC-62848F8F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157CE-6922-4113-B13B-F23D4C4A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70C35-5A9C-464C-A8D7-1B35B6C6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B5499-2CF8-4570-A58B-9C29804E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21C2D-EEE3-4252-A3A3-DAB86092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83EDB4-1E9A-4413-8D45-352414CA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204CF-98A6-460D-95EF-93D87BFD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A4BEF-7C0B-4F21-B508-EFBCCB24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78AE8-D1AE-41CE-94D7-046C6801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06D78-74A2-4013-8087-FCFCEF49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6A31E8-913C-4F69-B8A1-7FB012A3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6913-B703-4C30-9483-CE7CFDAD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57384-EE75-4A7D-B445-AE90633E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1C257-33BE-4C06-A159-179043D3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1C7A3-1404-4A52-AB74-1F1B4158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1A666F-AB70-4A98-BE84-58772C5F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B77B8-6679-4C22-BC1B-EE3E2549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332C91-2A5A-4446-80C8-86DBDC16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F0E7A-8062-4331-8120-0376CCF4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BFE475-B52D-4599-A08B-153D5017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A2954-3306-4228-A7B6-610F61F5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9A4E9-4C66-4073-AD20-85F3DC0E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1BEF-5482-42FE-9F99-2438D888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E34F7-62EE-43C8-A0F1-8D326FB0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DF162-A310-4E1E-89B0-EDA4345F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EE3EB-89B0-4AF1-BCC1-27526B31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46440-CC3B-45F9-90D5-A43F597F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65C16E-BDB0-4F21-BBD9-D031E075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9C3EC-DB3A-4232-9F82-BE4776AB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3676CF-DE8B-4E9E-92D9-0620FC56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C2D527-DD35-445B-B4A0-C19829D4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10B53A-4C88-419C-976A-F80A11ED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3406A-2051-4211-A5B3-596751EA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7895-0C16-4E49-979E-82358992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258018-92A3-4063-8DE7-62925256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610092-F8F0-44E4-9004-2B87FC99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A26B0-1F04-4C0D-83BA-4B1BF6AC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648319-1166-4465-9680-564F65CD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F1200-6C14-4A3E-86B8-68AA370C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1F9115-7B2D-449E-9F9B-EE3C1BC7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92BAD-2F98-421A-9A2D-F3E100C4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89198A-34F7-4777-81EB-0069439C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786BDC-8667-41C3-9AF4-EFC95602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3B31D5-DF6D-4A29-A63A-E632B19C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E1F-9BEE-44E9-9448-6948CA22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37D1-D850-4C3A-B264-C4D932B9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3A4CA6-8D4D-4A84-B195-E232E876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3DA22-6D7E-4043-A4D7-6DDCF5FC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BDAE9-172D-464D-8168-4F76531E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B5CB78-67FC-40EC-A156-3C6CD038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703A88-6288-46F0-83C9-5DA794E8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8510D-4B16-4CAD-A30E-0B4D5966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998F1-5012-428E-8156-683D2ABA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34F9D-5EF2-44EB-88CA-008E89F9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778ABE-5BEC-434A-8FA1-27EBB476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AE536F-DC24-4C0F-9F41-C1BDF859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366E-37A2-4C2E-AB10-DC14733E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146156-E944-4778-B24D-AAD0E0C3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87487-F843-43DE-B256-7A55C9D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344060-A9FD-4603-A0B6-9554317B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38D0C7-4B94-4EB7-AA1E-578F6A94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6D7AA6-CDE2-4D6C-AD50-6726CABE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B9FF4B-8A8C-41CF-B1A8-B2BCC49C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07D07-8ADA-48C2-B5EE-024CFDF0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9648E8-91BC-4BD2-9B8F-1D5772FE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6A5431-9C28-4C68-8AC9-5BEFE69F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071D0E-A5F7-4846-8791-664DCCCA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BFDB-63CA-408A-82D2-AFB7E3DB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F3C466-2131-4914-8790-D49157A7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8C8C0B-25BE-4CA4-94B5-7AF68937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DE4294-587F-45E2-BA86-5B246DAE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3C4D6B-F4A8-4A6B-891A-C341EF70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7D2D3A-20E3-4E5E-8746-CAAC4D87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463FEF-DCE1-45D6-9858-5A82CA42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DE063C-C2DE-45D9-92C9-5EBCD899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848CE-6AF1-4EF5-8CF3-22C1F33C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0F029-73B8-4F1F-8308-0C8BB13A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238E2A-50D0-471C-A0D3-08E0AD16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C549-A554-4C19-9BF9-D89D79B2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BB20C-9B95-4801-A7EB-FA9DE5AA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50855D-BBA2-4EA1-A583-D4B7EC26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BFA47-C029-4D82-9D6B-0B626E4C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1845C4-F0EE-4A0F-9C0C-2900CA3F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155DC2-8D1F-4E30-BC93-637333F6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B88F7-7722-4B50-AFB9-4BD3593E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37624-530F-4BDA-B1C4-A6A4B970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5C3139-FDD9-4597-B496-84311F06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23B37B-5450-4DC0-8B65-42FEE166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BD7D0-B995-4BD1-8A64-9D6B7EDA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3CC4-D052-452A-A420-A5349B95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5AFD14-D80F-4C9B-AD52-02955B57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A7189C-B569-483C-B34A-EA7C6717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A62CDA-40FB-4AA1-8A94-421379D0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950C3D-3935-4F49-B030-0550EC51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60BA8-54E4-4595-9486-E37203C7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818C7A-B28D-4237-93F5-4C50C018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64336D-C4AB-4357-96AF-354D43CF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6434AC-1E0B-4863-9C40-A48DCAA6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1C6081-383E-46D3-83F8-F10C9289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A07B96-B907-46D4-BF07-8476D70B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29F2-87B2-489C-9E62-D1E7EB09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BA3417-6F01-48C6-9E34-42924E7E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FE3D75-C5F1-4A21-9C37-9DB407AD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2D416-AC63-4791-8E05-B4DFA895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2169CB-1063-4614-8882-68704305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24916A-8940-45E1-9A68-52A23576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EFD6DC-9043-4528-9DF2-407FF310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E30312-D7F3-4D2D-9390-628108CD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6ACC39-177D-4DEB-B6B0-59981D69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C425D9-1BCC-475F-8780-C3C1FF1A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D79B85-6D2C-4443-86FA-F5716E8A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B958D-9344-499D-9EE8-C55F0920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99D0CD-341E-4EE8-8320-0467B25A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B4A194-E97C-4689-9FAE-C6DD8DE8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7243FE-EC4A-4A74-9502-90CE10CC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3AD2B0-AEC4-4550-9C53-2CE8D480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9023B1-B224-4A4D-8EDA-9900195B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DA8C13-B5C4-4D32-8350-F07B9384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5F5DA9-CDB8-42AC-91FA-90A1DD9C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683369-DFCA-4448-A744-8989D268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E6BC15-52EE-47A5-AD5D-CB5C7202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F98654-0FAA-43BA-9096-FDE77C8D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5725-6CE0-41C6-9707-F21018B2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2BBDC2-081A-42A7-A5AA-624B53B6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2BC51E-5B6D-4631-9E94-ACE9805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3D3F98-89C2-4824-A1AF-34673326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9450AE-573D-410B-A1AE-BF3ACC8C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ED04EE-3E67-47F6-B23C-3EFE4A13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EB65D5-21C7-4762-88BF-1567CD2F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A24580-A162-4836-9F4D-D88F2E6C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3177-5883-45FF-8831-7A3C25F2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41CB-5A28-4316-B9F9-3737F846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717-1F0D-4544-ACDB-F2D00608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DABB6-E85A-4194-BE89-1251E2F6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2E46-AAC3-40A3-9DC4-DCAF0BB8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951C1-2C7B-4491-9B0A-04449DA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5954-AA7E-4556-9E35-B4909DC4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DF047-C427-4AC0-A239-D3C150D9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7FA6-411A-49B9-B8F5-C7210750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3B9DD-F38D-4F1D-9FEC-81EEFD88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F6EEC-E240-4B97-91DA-EDF18D67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3347E-B52E-4A2F-9746-5351093E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A898-3CB1-45A9-AE39-7B37331B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DE1-353A-47EF-A27D-5FFE31FC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66ABA-1053-41DE-A787-D332F5C2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BA0FC-D519-4D53-B035-379E6426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CF0AC-22BA-4129-AB66-2587CAFB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92577-5372-47DA-883A-E2EACEDB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B26A-E48B-4484-A1D7-4569E40F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16AB-D817-4EC7-B3B4-9D237BDB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4FFCB-E725-42F0-BA99-3DEB31F6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A8C4-FD39-4B2B-B5CD-60A0DDB9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BED2E-B17C-470E-9E1A-D6FE1741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A770F-D095-4C0F-8D4E-3265C96F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8B7-A670-4F1B-8146-1170641E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56FF7-D1C1-4146-B06E-96E661C1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F05BE-C72F-4FC1-8084-CB22C805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054CA-9023-4635-A01A-23A20A97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BB439-9099-456D-822F-59710E87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BFFE0-C072-4C76-AEBA-44305138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ECDE8-D8B7-4E20-BC01-439142E8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220C9-1B54-4D1C-AC89-1CCCBAC2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E925E-2ADD-45C4-B134-27772F42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97ED9-63A8-4B21-AF7C-25D25C08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2FEE1-5487-407E-84E0-BEDDE38F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D73-5D68-4ACE-B6B0-6E61F2AC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ACEC3-44AB-4397-8D71-400CE862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44540-14F7-49E6-8164-76563CB0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B8FC0-A1FD-4D5C-A029-2BCAB978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D5859-2EEF-4F23-92BC-94937051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32BDB-5EC5-4269-913D-7A9B8D6B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E95DA-EC50-4C19-8078-8AB2248F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F64C-FFD0-4FF0-BBC8-073AAF8E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3EF63-A84D-471F-88F4-1B099E7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CB421-93E0-4C82-94D1-E5125F2B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9C9F3-C7B0-43F5-92C9-5D6CB75B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135-12B4-408E-997B-01A7F54D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D5BE6-4C20-4480-802D-94CBFC29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DF5D-4BFE-42D0-B12C-43B6EF53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3CC4C-143C-4066-9E84-9D616896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F0BCB-794E-4E95-8C8B-2C0C497F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92B83-7291-46AD-AF0D-87A0CEAC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CA9B5-6B49-4F5F-BDF8-9F0429FB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AE9FC-3EDD-4858-BA90-D065D4ED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3223D-2BBC-4BD4-97FD-619F6B20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AB544-3B7D-4C01-A64F-930F34E5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3D2B2-EC42-47C8-8235-CC71F9F6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E14-48ED-441D-96BC-01CA817B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5BE9D-4CE1-4B01-9337-4CAB8BC1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53058-D313-4254-ABAF-4997F24D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4244B-39F2-4C16-AA3E-6FC1F190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93719-219B-4C43-BD41-CEC20A1F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BC385-AF5F-4EB7-9FA2-9080060B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31CD2-9ADC-4AAB-90D0-DB145641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93948-F744-4910-9855-478CC405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DBF6B-4C05-4DC2-9858-FBF19973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F8041-2FE5-4D83-A8F8-C63628F0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90A67-1F8D-48AB-92E4-FD079D8B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82A-82D8-428B-BEBB-6738C8D6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586C1-B800-44B9-BA37-402B17D2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5C4B2-638E-4FBB-A5CC-F0FD960B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BC403-AA39-480F-A670-8488261B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746D8-9A9F-4FA0-A025-EF15EF1A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8AA9B-2DC3-4FDB-BFB3-9A3A5913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48299-BB38-4592-AE18-D3087BB0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46F13-5D1E-4728-8F7D-A730F980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12380-DBA0-4C5C-BA4B-7ED0B4BC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571BA-989D-4BD5-8D92-23D57BC0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0308A-7E3F-4590-BB67-134CF90D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EF4A-FC3A-4412-8DE8-F0AB89927A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07FF-9FBD-45CF-A509-0A3455F876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812B-2CF5-4E27-8413-28F2CEE49B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3C5B-C9A1-4892-A7C1-D32CE481CA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0A40-A474-4260-B119-8BA11B2FD5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BBE3-19EB-41A5-8F55-9F54F9527A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5A3B-CE99-47AB-BB63-3D68C93DA4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F790-A227-45E4-8B33-298CAC5A50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4045-4DDA-47D4-96D0-8DC8FC176B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DE38-2745-46CA-AEF0-F1367C7B1D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5076-1BEC-423D-A504-85ACB61EA3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14F-1491-4DB7-A7C8-3DAE1BB837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E21E-8EF8-4CD5-A2F3-87E04A04B4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3947-6282-466E-8466-259EB73741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8F5E-D693-4F59-949E-BB1485892E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5DD7-7363-4137-B961-E6505527E4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4235-5550-4396-990C-C752A81037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6A15-A4F5-4914-AED5-24F91B0F2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F5BC-04F5-4C06-BB6C-81A3BE30FB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4022-0A43-40A9-8A74-48F4EC5536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1AB4-E1D8-4EC6-BBD6-5372402F94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318B-2798-4E3F-B40B-51CF2B8D41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EB7C-BBC3-4E88-97D7-9C11D38706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DA97-1FB7-4F26-8062-9859635D05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28A5-FFE5-4B08-A645-98070992CC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43C2-44CB-47A0-B1CD-B20154BCC3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0093-C438-49BD-8F40-7F6D61E10C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5BC3-E259-4327-8A46-9B06A0526A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F25F-A874-4FB4-87C9-7B8ED2F669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835A-B6C5-4328-A277-B440AAC779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04B5-ED59-48DE-9C33-2FCA596B6A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E2F0-C295-4CF4-89E7-934B25A989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1DFD-8807-4E9E-9CBE-C9E5844F65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84FA-6F82-4964-AFF9-6892FE5F53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7B1B-CF76-4107-9534-E0C41D702D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6270-72CD-40F1-B48C-1618B97EF4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48C6-AD40-45BB-8160-D89DF0BB5F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6847-7113-409A-8938-018F4AD041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B4A3-B784-43F2-8973-512DD2452D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8061-AA35-4D8F-80D5-4EBAB9F103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AC18-1800-4874-B715-A85AB54173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7B42-4F6F-4E40-BFCC-91DF373AEF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743200" y="2967120"/>
            <a:ext cx="36576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81080" y="90360"/>
            <a:ext cx="878184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187200" y="641520"/>
            <a:ext cx="8771040" cy="61531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6156360" y="1168560"/>
            <a:ext cx="1224000" cy="4060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1224000" cy="4064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4643280" y="2708280"/>
            <a:ext cx="122400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900000" y="4249800"/>
            <a:ext cx="122400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6"/>
          <a:stretch/>
        </p:blipFill>
        <p:spPr>
          <a:xfrm>
            <a:off x="1042920" y="5272200"/>
            <a:ext cx="4105440" cy="4064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7"/>
          <a:stretch/>
        </p:blipFill>
        <p:spPr>
          <a:xfrm>
            <a:off x="1116000" y="6294600"/>
            <a:ext cx="410544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219240" y="920880"/>
            <a:ext cx="8705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图片 1" descr=""/>
          <p:cNvPicPr/>
          <p:nvPr/>
        </p:nvPicPr>
        <p:blipFill>
          <a:blip r:embed="rId1"/>
          <a:stretch/>
        </p:blipFill>
        <p:spPr>
          <a:xfrm>
            <a:off x="176040" y="873000"/>
            <a:ext cx="879012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图片 1" descr=""/>
          <p:cNvPicPr/>
          <p:nvPr/>
        </p:nvPicPr>
        <p:blipFill>
          <a:blip r:embed="rId1"/>
          <a:stretch/>
        </p:blipFill>
        <p:spPr>
          <a:xfrm>
            <a:off x="285840" y="57240"/>
            <a:ext cx="85723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图片 1" descr=""/>
          <p:cNvPicPr/>
          <p:nvPr/>
        </p:nvPicPr>
        <p:blipFill>
          <a:blip r:embed="rId1"/>
          <a:stretch/>
        </p:blipFill>
        <p:spPr>
          <a:xfrm>
            <a:off x="214200" y="2414520"/>
            <a:ext cx="8713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2"/>
          <a:stretch/>
        </p:blipFill>
        <p:spPr>
          <a:xfrm>
            <a:off x="971640" y="3371760"/>
            <a:ext cx="2808360" cy="40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2808360" cy="4060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4"/>
          <a:stretch/>
        </p:blipFill>
        <p:spPr>
          <a:xfrm>
            <a:off x="826920" y="3933720"/>
            <a:ext cx="1297080" cy="4064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5"/>
          <a:stretch/>
        </p:blipFill>
        <p:spPr>
          <a:xfrm>
            <a:off x="3564000" y="3962520"/>
            <a:ext cx="1297080" cy="40644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6"/>
          <a:stretch/>
        </p:blipFill>
        <p:spPr>
          <a:xfrm>
            <a:off x="5940360" y="3948120"/>
            <a:ext cx="1297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图片 1" descr=""/>
          <p:cNvPicPr/>
          <p:nvPr/>
        </p:nvPicPr>
        <p:blipFill>
          <a:blip r:embed="rId1"/>
          <a:stretch/>
        </p:blipFill>
        <p:spPr>
          <a:xfrm>
            <a:off x="219240" y="770040"/>
            <a:ext cx="87055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图片 1" descr=""/>
          <p:cNvPicPr/>
          <p:nvPr/>
        </p:nvPicPr>
        <p:blipFill>
          <a:blip r:embed="rId1"/>
          <a:stretch/>
        </p:blipFill>
        <p:spPr>
          <a:xfrm>
            <a:off x="228600" y="1709640"/>
            <a:ext cx="86868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图片 1" descr=""/>
          <p:cNvPicPr/>
          <p:nvPr/>
        </p:nvPicPr>
        <p:blipFill>
          <a:blip r:embed="rId1"/>
          <a:stretch/>
        </p:blipFill>
        <p:spPr>
          <a:xfrm>
            <a:off x="247680" y="779400"/>
            <a:ext cx="8648640" cy="584856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2"/>
          <a:stretch/>
        </p:blipFill>
        <p:spPr>
          <a:xfrm>
            <a:off x="900000" y="6093000"/>
            <a:ext cx="503280" cy="40608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3"/>
          <a:stretch/>
        </p:blipFill>
        <p:spPr>
          <a:xfrm>
            <a:off x="2700360" y="6093000"/>
            <a:ext cx="503280" cy="40608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4"/>
          <a:stretch/>
        </p:blipFill>
        <p:spPr>
          <a:xfrm>
            <a:off x="4500720" y="6093000"/>
            <a:ext cx="502920" cy="40608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5"/>
          <a:stretch/>
        </p:blipFill>
        <p:spPr>
          <a:xfrm>
            <a:off x="6156360" y="6093000"/>
            <a:ext cx="503280" cy="40608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6"/>
          <a:stretch/>
        </p:blipFill>
        <p:spPr>
          <a:xfrm>
            <a:off x="7885080" y="607860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6" name="图片 1" descr=""/>
          <p:cNvPicPr/>
          <p:nvPr/>
        </p:nvPicPr>
        <p:blipFill>
          <a:blip r:embed="rId1"/>
          <a:stretch/>
        </p:blipFill>
        <p:spPr>
          <a:xfrm>
            <a:off x="4229280" y="3405240"/>
            <a:ext cx="685800" cy="47520"/>
          </a:xfrm>
          <a:prstGeom prst="rect">
            <a:avLst/>
          </a:prstGeom>
          <a:ln w="0">
            <a:noFill/>
          </a:ln>
        </p:spPr>
      </p:pic>
      <p:pic>
        <p:nvPicPr>
          <p:cNvPr id="1157" name="图片 2" descr=""/>
          <p:cNvPicPr/>
          <p:nvPr/>
        </p:nvPicPr>
        <p:blipFill>
          <a:blip r:embed="rId2"/>
          <a:stretch/>
        </p:blipFill>
        <p:spPr>
          <a:xfrm>
            <a:off x="181080" y="554040"/>
            <a:ext cx="878184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90440" y="947880"/>
            <a:ext cx="87631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图片 1" descr=""/>
          <p:cNvPicPr/>
          <p:nvPr/>
        </p:nvPicPr>
        <p:blipFill>
          <a:blip r:embed="rId1"/>
          <a:stretch/>
        </p:blipFill>
        <p:spPr>
          <a:xfrm>
            <a:off x="905040" y="1981080"/>
            <a:ext cx="7333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图片 1" descr=""/>
          <p:cNvPicPr/>
          <p:nvPr/>
        </p:nvPicPr>
        <p:blipFill>
          <a:blip r:embed="rId1"/>
          <a:stretch/>
        </p:blipFill>
        <p:spPr>
          <a:xfrm>
            <a:off x="263520" y="855720"/>
            <a:ext cx="8618400" cy="542916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" descr=""/>
          <p:cNvPicPr/>
          <p:nvPr/>
        </p:nvPicPr>
        <p:blipFill>
          <a:blip r:embed="rId2"/>
          <a:stretch/>
        </p:blipFill>
        <p:spPr>
          <a:xfrm>
            <a:off x="1116000" y="554832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3"/>
          <a:stretch/>
        </p:blipFill>
        <p:spPr>
          <a:xfrm>
            <a:off x="2843280" y="553068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4"/>
          <a:stretch/>
        </p:blipFill>
        <p:spPr>
          <a:xfrm>
            <a:off x="4572000" y="553068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" descr=""/>
          <p:cNvPicPr/>
          <p:nvPr/>
        </p:nvPicPr>
        <p:blipFill>
          <a:blip r:embed="rId6"/>
          <a:stretch/>
        </p:blipFill>
        <p:spPr>
          <a:xfrm>
            <a:off x="8172360" y="551664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66680" y="888840"/>
            <a:ext cx="8809200" cy="5429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539640" y="544500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237960" y="947880"/>
            <a:ext cx="8668080" cy="49622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502920" cy="4060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684360" y="2997360"/>
            <a:ext cx="502920" cy="4060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5"/>
          <a:stretch/>
        </p:blipFill>
        <p:spPr>
          <a:xfrm>
            <a:off x="684360" y="35002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6"/>
          <a:stretch/>
        </p:blipFill>
        <p:spPr>
          <a:xfrm>
            <a:off x="684360" y="400536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7"/>
          <a:stretch/>
        </p:blipFill>
        <p:spPr>
          <a:xfrm>
            <a:off x="684360" y="5013360"/>
            <a:ext cx="502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图片 1" descr=""/>
          <p:cNvPicPr/>
          <p:nvPr/>
        </p:nvPicPr>
        <p:blipFill>
          <a:blip r:embed="rId1"/>
          <a:stretch/>
        </p:blipFill>
        <p:spPr>
          <a:xfrm>
            <a:off x="376200" y="2400480"/>
            <a:ext cx="8389800" cy="20574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3"/>
          <a:stretch/>
        </p:blipFill>
        <p:spPr>
          <a:xfrm>
            <a:off x="727200" y="2997360"/>
            <a:ext cx="503280" cy="4060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166680" y="909720"/>
            <a:ext cx="88092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200160" y="1477800"/>
            <a:ext cx="8743680" cy="153360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2" descr=""/>
          <p:cNvPicPr/>
          <p:nvPr/>
        </p:nvPicPr>
        <p:blipFill>
          <a:blip r:embed="rId2"/>
          <a:stretch/>
        </p:blipFill>
        <p:spPr>
          <a:xfrm>
            <a:off x="200160" y="2897280"/>
            <a:ext cx="8820000" cy="30556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502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299880" y="892080"/>
            <a:ext cx="8437680" cy="55612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266760" y="2171880"/>
            <a:ext cx="8610480" cy="25146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502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7:58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